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A036-0702-40CD-A4AE-0BC6EC7FE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A066-D027-4223-8F02-C04096120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4758-43BE-47B0-9E6A-BC49B26C0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983D-DC73-4975-B673-E04412033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6A9A-4C88-4190-842F-95D029E4A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CE48-9711-4D34-9AA8-5D3FAC56B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DBB9-5AB6-4EA1-AD48-02B52DB75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24D6-BC33-4CAB-BE1B-67497621A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BFD3-66C5-4D11-9657-18815FA14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480B-EC1E-4804-B288-6F19ECB37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6D3F-FA92-4477-B274-8FE009DAC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B02B-F7D8-4202-B973-FC26B99BD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1CF29-E96B-41E7-8086-D1F8D9C531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oute 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29630" t="43777" r="0" b="9086"/>
          <a:stretch/>
        </p:blipFill>
        <p:spPr>
          <a:xfrm>
            <a:off x="457200" y="1676520"/>
            <a:ext cx="8305920" cy="30607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5638680"/>
            <a:ext cx="7238880" cy="6426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lking directions to Korean International School of Hong K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2 m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abou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m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477120" y="4952880"/>
            <a:ext cx="1295280" cy="1676520"/>
          </a:xfrm>
          <a:prstGeom prst="upArrow">
            <a:avLst>
              <a:gd name="adj1" fmla="val 50000"/>
              <a:gd name="adj2" fmla="val 3235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3T05:01:11Z</dcterms:created>
  <dc:creator>student305</dc:creator>
  <dc:description/>
  <dc:language>en-US</dc:language>
  <cp:lastModifiedBy>student305</cp:lastModifiedBy>
  <dcterms:modified xsi:type="dcterms:W3CDTF">2010-03-23T05:21:36Z</dcterms:modified>
  <cp:revision>8</cp:revision>
  <dc:subject/>
  <dc:title>Slide 1</dc:title>
</cp:coreProperties>
</file>